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C66-415E-4B6A-90C7-8D6E085D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428F-FE2F-458F-8112-BDC2DBD6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0B5A-6609-44A6-9602-BCBC57086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EEE-29C0-4A04-BB50-050F1685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BCE-346D-4245-A50C-D0012CB1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F07-3445-4775-89DD-D952D667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79A-6629-4678-A04D-121E01FA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152-BE53-423E-979F-8A7FA584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4B0-4F67-4B72-BCAA-08BA5C1F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2A0-D9A9-4E07-8218-BC12F8D0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A915-2179-4789-892E-E3F9259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257-9DF3-4748-B495-7C5175AC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774-D2AD-4B93-9425-0061A159C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ANd9GcTxry6T-DJRBmRg1f20UjA971d8-ki0dbnIhZTRCw1MpJ_0zic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ne Fer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Ia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ANd9GcSH0r2GVnSrsVALebm0ysIM_vnVC8HOZotpfIJS6iF1zr7iriW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ein buch gele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4086360" y="2724120"/>
            <a:ext cx="9712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086360" y="2724120"/>
            <a:ext cx="9712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15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http://t2.gstatic.com/images?q=tbn:ANd9GcTFX6TKLiOErgXjq6SfLXfvs6AeLTopebWhoLTGxb0jOhqiP7eu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viele essen gegess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63360" y="-91116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>
            <a:off x="63360" y="-911160"/>
            <a:ext cx="243864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9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t0.gstatic.com/images?q=tbn:ANd9GcTEeeNZ2QchiMOFByjNAhAC6OX4Qew14Bkj0TH9-lrqZoaao_w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wasser getru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41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1" descr="http://t1.gstatic.com/images?q=tbn:ANd9GcSExp35JPo6j9_Kbrr0OL6aTRiBspmzCI6bxepnSOGx5aM1C5CD5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lebensmittel gekau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63360" y="-698400"/>
            <a:ext cx="1295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360" y="-698400"/>
            <a:ext cx="1295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3360" y="-698400"/>
            <a:ext cx="129564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46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http://t1.gstatic.com/images?q=tbn:ANd9GcTyO7_aM6HzjHhVWW5MSnAK-FxgzlIuDrYBB0Slu5izMHSCwjX_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sehr gefaulen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75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http://t1.gstatic.com/images?q=tbn:ANd9GcSKY9KWQTFsWtRRnbJlh7rnsWzwHlGUT3JzWAerThCIA2SZ-xtR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adelphia hat mir gut gef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63360" y="-690480"/>
            <a:ext cx="2133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63360" y="-690480"/>
            <a:ext cx="2133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78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http://t3.gstatic.com/images?q=tbn:ANd9GcRT7y7zLfElaZ5E_KNKpicGcJlGlts16vq5Mw7l57VI650twgAX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 musst in Philadelphia ge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384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Nd9GcR4l7urgGu9skOq39Rgp6zGRW4_drVEVOcblmh8z4vBRBsrl1l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war in Philadelphia, Pennsylv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orded Sound" descr=""/>
          <p:cNvPicPr/>
          <p:nvPr/>
        </p:nvPicPr>
        <p:blipFill>
          <a:blip r:embed="rId2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39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http://t1.gstatic.com/images?q=tbn:ANd9GcQDiG6d_fdwwGpON6hzDmMnB2VEUYzYeF5KC_B24A81rlopOq_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im hau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nachten meine schwe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63360" y="-843120"/>
            <a:ext cx="264816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63360" y="-843120"/>
            <a:ext cx="264816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9"/>
          <p:cNvSpPr/>
          <p:nvPr/>
        </p:nvSpPr>
        <p:spPr>
          <a:xfrm>
            <a:off x="63360" y="-851040"/>
            <a:ext cx="2610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3360" y="-851040"/>
            <a:ext cx="2610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50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ANd9GcRCcyS-p0JjR7LBaEMSW0dImUO8EnZh6DEuBNQCUgEdTWWOppk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hiladelphia habe ich ein phili cheese steak geges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74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a4.sphotos.ak.fbcdn.net/photos-ak-snc1/v4561/78/48/591070849/n591070849_2773224_6846310.jpg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h habe mit den hunden meiner schwester gespie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90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ANd9GcTn2MUm3DAKOwALmRN_cvCrC9dZJrA-0rY40hkhn-zGOaJcp7cTU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Madden NFL 2011 gemac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511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1" descr="ANd9GcSn2E-VCIfKUgwHHTmyhXSeP5Caicr79v_le3v7pOJldelI2fM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zu Hooter’s gewesen, und es war sehr teu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3728880" y="2900520"/>
            <a:ext cx="1686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3728880" y="2900520"/>
            <a:ext cx="1686240" cy="10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>
            <a:off x="3790800" y="2995560"/>
            <a:ext cx="156240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15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://a3.sphotos.ak.fbcdn.net/hphotos-ak-snc4/76163_495544255849_591070849_7143793_4935769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habe mein nichte gespie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90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ANd9GcSKUDyV3xkd7viEdGgRPfp9XL2SlWVKneR4Nne0QpxNb9-9EKQmT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gewand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Recorded Sound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69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8:09:29Z</dcterms:created>
  <dc:creator>CUSD220</dc:creator>
  <dc:description/>
  <dc:language>en-US</dc:language>
  <cp:lastModifiedBy>Tina Adams</cp:lastModifiedBy>
  <dcterms:modified xsi:type="dcterms:W3CDTF">2011-11-21T01:56:48Z</dcterms:modified>
  <cp:revision>22</cp:revision>
  <dc:subject/>
  <dc:title> </dc:title>
</cp:coreProperties>
</file>